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D99BD-3D41-4622-A259-83E2C2D780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9603A-D8FE-46EA-97DC-E01EA17A1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6435-7647-4D0C-9B96-2573C8B72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1950B-60C6-4BB5-9D16-63673A850A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39CA-F098-46AB-BC28-340E4003E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B0BC3-8F56-4D6F-9314-0950ED727D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75280-F008-4B8E-8BE1-D348DE0DF8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83EED-342D-4CB0-ABBC-18D8328359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CDC07-13C3-4525-A83A-E82DD24D7E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92B80-3879-4DD5-836D-E8EAF5874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64503-4CE3-4C78-812D-F55F89AA5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A3B49-2A24-435C-8254-724AE480FD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86B6F-4E76-4F41-915E-326D318598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9321A-35C8-4AD7-A35B-B8682C7091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A7AB-C905-4759-884A-A3781D157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December 16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.0 – Activity updater, Backup to XS, Longer battery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.0 – Focus on Reliability and Deploy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e management, delegated signatures, WiFi up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ora 10 base OS and application su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power management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M input support for localization and translation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3434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upport for existing Linux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security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 for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other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Windows XP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supporting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10:07Z</dcterms:created>
  <dc:creator/>
  <dc:description>Camrbridge, MA
April 23-27, 2007
</dc:description>
  <dc:language>en-US</dc:language>
  <cp:lastModifiedBy> </cp:lastModifiedBy>
  <cp:lastPrinted>2008-09-10T16:24:23Z</cp:lastPrinted>
  <dcterms:modified xsi:type="dcterms:W3CDTF">2008-12-17T14:39:53Z</dcterms:modified>
  <cp:revision>83</cp:revision>
  <dc:subject/>
  <dc:title>One Laptop per Child</dc:title>
</cp:coreProperties>
</file>